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1A79B-895D-44DA-8400-B34F46E65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528BA-85DE-4D6C-9677-B8F7AD333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EAD71-AF7F-45C6-AA63-3811F003A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6BF44-2FE2-4FE7-81CB-A9C579DC7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F6E60-48B3-43CF-ABC2-2C227A868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5F8DD-5DFA-4B59-89AD-FECA167E4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53C66-EC42-440F-99E4-22AB7F1F4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2E90B-648F-4400-90AA-CBA8DFE30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FBC76-74BD-4298-986A-E132EBB6C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8EE1E-DD1E-4409-8F6C-4DE42964C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A1B0F-FCFA-4B13-8757-493F650BD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D535B-90DA-478D-8383-7C3EBD7FD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AB09E-55A6-4F2C-930F-C6141CF6C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010B3-BA3D-4180-B230-B48DED33A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58C8F-5DBE-4B47-818D-84264E009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C1C8D-65E0-48B1-BF9A-1D35065D8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C5A2D-34EC-492B-B830-1E2137BBB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0137A-CBB9-4C15-8426-D3E357363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25F66-5DC5-4B5B-8FD8-129B773C2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1DB7A-03FD-486D-B187-89E596965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A59F5-7107-4375-8A1F-9B42EFF47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F928C-4BD9-4712-A8FE-61623D4BB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2D78F-04EC-4CA0-8BAE-20B51B202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78F23-E164-437F-99FC-2653CAD3D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D35E1-A22F-4BD6-8CDC-822FF95D79D9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5639E-D356-40D8-9599-48C41826F76F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mailto:Joy.Fitzgerald@vernonct.org" TargetMode="External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find.galegroup.com/gps/publicationSearch.do?queryType=PH&amp;inPS=true&amp;type=getIssues&amp;searchParamsString=&amp;prodId=IPS&amp;currentPosition=0&amp;userGroupName=s0003&amp;searchTerm=Canadian+Book+Review+Annual&amp;index=JX&amp;tabID=T003&amp;contentSet=IAC-Documents&amp;previousPage=searchResults" TargetMode="External"/><Relationship Id="rId2" Type="http://schemas.openxmlformats.org/officeDocument/2006/relationships/hyperlink" Target="http://find.galegroup.com/gps/publicationSearch.do?queryType=PH&amp;inPS=true&amp;type=getIssues&amp;searchParamsString=&amp;prodId=IPS&amp;currentPosition=0&amp;userGroupName=s0003&amp;searchTerm=Canadian+Book+Review+Annual&amp;index=JX&amp;tabID=T003&amp;contentSet=IAC-Documents&amp;previousPage=searchResults" TargetMode="External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rhslmc2008.wikispaces.com/" TargetMode="External"/><Relationship Id="rId2" Type="http://schemas.openxmlformats.org/officeDocument/2006/relationships/hyperlink" Target="http://go-passport.grolier.com/" TargetMode="External"/><Relationship Id="rId3" Type="http://schemas.openxmlformats.org/officeDocument/2006/relationships/hyperlink" Target="http://go.grolier.com/" TargetMode="External"/><Relationship Id="rId4" Type="http://schemas.openxmlformats.org/officeDocument/2006/relationships/hyperlink" Target="http://infotrac.galegroup.com/itweb/s1461?db=SRC" TargetMode="External"/><Relationship Id="rId5" Type="http://schemas.openxmlformats.org/officeDocument/2006/relationships/hyperlink" Target="http://find.galegroup.com/menu/start?prod=OVRC&amp;userGroupName=s1461" TargetMode="External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rhslmc2008.wikispaces.com/" TargetMode="External"/><Relationship Id="rId2" Type="http://schemas.openxmlformats.org/officeDocument/2006/relationships/hyperlink" Target="http://www.iconn.org/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Library Orientation to Magazines and Online Databases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Adult Ed - 2009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52280" y="304920"/>
            <a:ext cx="876312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Use the Resources Prepared for you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	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on TABS to limit or selec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XAMPLE: Articles and Databases helps  “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Find databases that have articles, streaming media, and more in the following subjects...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“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on Subjects or Keyword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arch for SPECIFIC if you have i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f results are too limited broaden search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ONLINE or In-Person HELP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	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tumped or need help with online resources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You can email the RHS Librarian at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Joy.Fitzgerald@vernonct.or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nd I will email back with answer if I can help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5292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List of ICONN Resources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1676520"/>
            <a:ext cx="8839080" cy="490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8686800" cy="64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8615520" cy="63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228600" y="230040"/>
            <a:ext cx="8686800" cy="63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8686800" cy="63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Features of Note to help you alo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LEFT MARGIN has links to related subject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Multi-tasking or saving for later (features you can have it read to you through an MP3 Download if you are going to be on a bus or riding in a car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rint articles or Email them to store them electronicall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Bookmark things: example: Bookmark</a:t>
            </a:r>
            <a:r>
              <a:rPr b="1" i="1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Copy the Bookmark URL and paste it into another document.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000" spc="-1" strike="noStrike" u="sng">
                <a:solidFill>
                  <a:srgbClr val="003366"/>
                </a:solidFill>
                <a:uFillTx/>
                <a:latin typeface="Arial"/>
              </a:rPr>
              <a:t>http://find.galegroup.com/gps/infomark.do?contentSet=IAC-Documents&amp;docType=IAC&amp;type=retrieve&amp;tabID=T007&amp;prodId=IPS&amp;docId=A206170769&amp;userGroupName=s1461&amp;version=1.0&amp;source=gale&amp;infoPage=infoMarkPag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8691480" cy="63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Needed to access Information on the Internet – Sources Available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tate Library Resources - Authoritativ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ocal Library Resources – Authoritativ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ree Internet Resources (Google or other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ome may be authoritativ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ome are provent to be un-reliable some of the time so must be double checked if use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Special Online features to help:</a:t>
            </a:r>
            <a:br>
              <a:rPr sz="3200"/>
            </a:b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example: Dictionary definition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676520" y="2057400"/>
            <a:ext cx="5314680" cy="462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942840" y="519120"/>
            <a:ext cx="7258320" cy="58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286200" y="972360"/>
            <a:ext cx="841860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Some Primary Sources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such as Newspapers available through ICONN (** This also has a HISTORIC CONNECTICUT NEWSPAPERS DATABASE which covers 1764-1922)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228600" y="2057400"/>
            <a:ext cx="867744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757800" y="834120"/>
            <a:ext cx="831348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Searches may yield only Abstracts or Citation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PUB: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CANADIAN BOOK REVIEW ANNUAL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  <a:hlinkClick r:id="rId2"/>
              </a:rPr>
              <a:t> 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DETAIL: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ITATION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31480" indent="-226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BOOK REVIEW, BRIEF ARTICLE </a:t>
            </a:r>
            <a:br>
              <a:rPr sz="1800"/>
            </a:b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PUB: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NURSING TIMES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 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DETAIL: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BSTRACT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31480" indent="-226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COVER STORY </a:t>
            </a:r>
            <a:br>
              <a:rPr sz="1800"/>
            </a:b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earch Government Document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ederal Documents – Electronic or Print versions of publications by the government on all different topic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We have some in Print in our VERTICAL FILE, a print set of folders in file cabinets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Government websites may have information :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Population Statistics and Public Information are common and available from many websites ending in “.gov”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Most of these you can download PDF versions or request a print version be mailed to you for free or a small charge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262080" y="186120"/>
            <a:ext cx="8390520" cy="4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rom General to specific in Spanish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762120" y="295200"/>
            <a:ext cx="7315200" cy="656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RAP UP  and Tip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Q &amp; A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emember Library Website for link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sk a Librarian if neede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sk your teacher for other terminolog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errific opportunity … great resources… use the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State Library Resources - Authoritative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838080" y="1523880"/>
            <a:ext cx="769320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910080" y="834120"/>
            <a:ext cx="793260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Local Library Resources – Authoritative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8600" y="1362240"/>
            <a:ext cx="8763120" cy="53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986400" y="910080"/>
            <a:ext cx="793260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Local Library Resources – Card Catalog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8610480" cy="519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LIBRARY RESOURCES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	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agazines and Periodicals both in print or online or in libraries or through inter-library loa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agazines found through Paid Databas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lectronic resources  including electronic books, journals, newspapers and mor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ederal Documents – Vertical File &amp; Onlin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icroforms – Historical – Ask at desk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atabases from State and Local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52280" y="1905120"/>
            <a:ext cx="883944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here to Start Online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Library Home page on RHS Websit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Library WIKI page at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http://rhslmc2008.wikispaces.com/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Online Databases such as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GROLIER : </a:t>
            </a:r>
            <a:r>
              <a:rPr b="0" lang="en-US" sz="1800" spc="-1" strike="noStrike" u="sng">
                <a:solidFill>
                  <a:srgbClr val="003366"/>
                </a:solidFill>
                <a:uFillTx/>
                <a:latin typeface="Arial"/>
                <a:hlinkClick r:id="rId2"/>
              </a:rPr>
              <a:t>http://go-passport.grolier.com/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or </a:t>
            </a:r>
            <a:r>
              <a:rPr b="0" lang="en-US" sz="1800" spc="-1" strike="noStrike" u="sng">
                <a:solidFill>
                  <a:srgbClr val="003366"/>
                </a:solidFill>
                <a:uFillTx/>
                <a:latin typeface="Arial"/>
                <a:hlinkClick r:id="rId3"/>
              </a:rPr>
              <a:t>http://go.grolier.com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3366"/>
                </a:solidFill>
                <a:uFillTx/>
                <a:latin typeface="Arial"/>
                <a:hlinkClick r:id="rId4"/>
              </a:rPr>
              <a:t>STUDENT RESOURCE CENTER GOLD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:http://find.galegroup.com/srcx/start.do?sc=SRC&amp;userGroupName=s1461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3366"/>
                </a:solidFill>
                <a:uFillTx/>
                <a:latin typeface="Arial"/>
                <a:hlinkClick r:id="rId5"/>
              </a:rPr>
              <a:t>Opposing Viewpoints Resource Center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:http://find.galegroup.com/ovrc/start.do?prodId=OVRC&amp;userGroupName=s1461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hings to remember: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nline Databases are overall more reliable than a search on the interne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nline resources are available through RHS Subscriptions and State of Connecticut Subscriptions which can be found by going to the RHS Library WIKISPACES PAGE at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http://rhslmc2008.wikispaces.com/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or CT State Resources at: 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  <a:hlinkClick r:id="rId2"/>
              </a:rPr>
              <a:t>http://www.iconn.or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9T19:39:36Z</dcterms:created>
  <dc:creator>fitzgeraldj</dc:creator>
  <dc:description/>
  <dc:language>en-US</dc:language>
  <cp:lastModifiedBy>fitzgeraldj</cp:lastModifiedBy>
  <dcterms:modified xsi:type="dcterms:W3CDTF">2009-10-19T22:11:39Z</dcterms:modified>
  <cp:revision>19</cp:revision>
  <dc:subject/>
  <dc:title>Library Orientation</dc:title>
</cp:coreProperties>
</file>